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182B-2191-46DB-9555-0883F285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FE26-800D-4352-BFF8-117DBE74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2386-75DA-44DE-A64D-64942157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00C-852F-45FE-8D88-EFB1515B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BBD9-F224-4AAD-AF7C-23A00D563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927C-E25B-4383-A0DE-F395EEDF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969A-D3C2-4C0E-AAE2-70C3773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65D7-F11B-440F-A3D5-E15B7E76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7FFD-2D55-42CC-962C-C8A7E7D4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5780-2FFE-4B1B-BC81-33D179C2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A32A-23EB-4035-9CEF-69000B5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86B-2C0A-4893-9E9B-C4DBAC9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8EED-F364-41A1-8FF4-343A4E3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A24A-545F-42CE-8088-FC2DE09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4892-3275-4EA6-A2AE-093FD2C4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4A5-3A87-4078-947C-643DB93F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2FB8-FFE8-4FA6-A9CF-7CC80C09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DB1-FF83-4B42-BC4A-9BEF3A5C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406-1CCC-46A7-9A91-5E2BE482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B20-D4AF-4749-A3D7-38262E07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A2A-A67F-41BD-B9E3-8836345B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E8E-46AD-4027-A886-AEAE7DBD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9F49-516E-4AF0-983D-65955E51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C88-6CE7-4DCA-B703-13606FD3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29B4-7E39-4492-96B0-96602A3287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146D-7265-48F9-AF1B-3DBD32C562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56000" y="189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Criterii de parale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620640"/>
            <a:ext cx="56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Cupri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1253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Recapitularea cunostiintelor anterio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413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Teorema dreptelor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17002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Consecinte ale teoremei dreptelor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1989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Criterii de paralelis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2276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Arial Black"/>
              </a:rPr>
              <a:t>Aplicati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511200">
            <a:off x="434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96440" y="5375160"/>
            <a:ext cx="30384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3429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7969800">
            <a:off x="574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72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0920" y="5805360"/>
            <a:ext cx="482616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35280" y="3860640"/>
            <a:ext cx="475308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92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580536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93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9280" y="350028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954920" y="33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54920" y="5373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292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08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Prof. Bud Adr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6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6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6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6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96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9600"/>
                            </p:stCondLst>
                            <p:childTnLst>
                              <p:par>
                                <p:cTn id="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627280" y="1341360"/>
                <a:ext cx="274644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50872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978440" y="1387440"/>
                <a:ext cx="2838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952880" y="1387440"/>
                <a:ext cx="2786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978440" y="1459080"/>
                <a:ext cx="2838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076720" y="1413000"/>
                <a:ext cx="2683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55720" y="537516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06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0649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rot="18511200">
            <a:off x="3012480" y="326232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3200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7969800">
            <a:off x="261648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0800000">
            <a:off x="2627640" y="3706920"/>
            <a:ext cx="739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8" y="519"/>
                </a:moveTo>
                <a:arcTo wR="10800" hR="10800" stAng="-4329682" swAng="7137053"/>
                <a:lnTo>
                  <a:pt x="10800" y="10800"/>
                </a:lnTo>
                <a:close/>
              </a:path>
              <a:path fill="none" w="21600" h="21600">
                <a:moveTo>
                  <a:pt x="14108" y="519"/>
                </a:moveTo>
                <a:arcTo wR="10800" hR="10800" stAng="-4329682" swAng="7137053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3200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56000" y="429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corespon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9520" y="907920"/>
            <a:ext cx="78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corespondente congruente, atunci dreptele sunt paralele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0"/>
                            </p:stCondLst>
                            <p:childTnLst>
                              <p:par>
                                <p:cTn id="8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0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00833E-006 L -0.52483 -0.03261 E">
                                      <p:cBhvr>
                                        <p:cTn id="882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4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8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28585E-006 L -0.52257 0.034 E">
                                      <p:cBhvr>
                                        <p:cTn id="90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00833E-006 L -0.51684 0.10384 E">
                                      <p:cBhvr>
                                        <p:cTn id="930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25532E-006 L -0.52257 0.16003 E">
                                      <p:cBhvr>
                                        <p:cTn id="955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7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1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4211640" y="1989000"/>
                <a:ext cx="4581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211640" y="1989000"/>
                <a:ext cx="4599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5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827720" y="530064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431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43171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56400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7969800">
            <a:off x="261576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0646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06463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0800000">
            <a:off x="2772000" y="3608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79280" y="3785760"/>
            <a:ext cx="501336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2692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3640" y="386064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0364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7640" y="4076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in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5520" y="836640"/>
            <a:ext cx="69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interne de aceasi parte a secantei suplementar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57960" y="119700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unci dreptele sunt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4140360" y="1413000"/>
                <a:ext cx="2746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670248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9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0"/>
                            </p:stCondLst>
                            <p:childTnLst>
                              <p:par>
                                <p:cTn id="9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3" dur="5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7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3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06198E-006 L -0.44028 -0.07378 E">
                                      <p:cBhvr>
                                        <p:cTn id="1008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4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72988E-006 L -0.44739 0.04441 E">
                                      <p:cBhvr>
                                        <p:cTn id="103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8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4260960" y="2111400"/>
                <a:ext cx="45846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211640" y="2060640"/>
                <a:ext cx="4592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8511200">
            <a:off x="2437200" y="390996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78640" y="4005360"/>
            <a:ext cx="4500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80000" y="429264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ex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40000" y="9079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externe de aceasi parte a secantei suplementar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3600" y="126828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tunci dreptele sunt parale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140360" y="1413000"/>
                <a:ext cx="27460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6702480" y="1557360"/>
                <a:ext cx="24415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6" dur="5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0" dur="5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84551E-007 L -0.46077 -0.06776 E">
                                      <p:cBhvr>
                                        <p:cTn id="108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96855E-006 L -0.45573 0.04163 E">
                                      <p:cBhvr>
                                        <p:cTn id="1109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5" dur="2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2627280" y="4797360"/>
                <a:ext cx="6127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7969800">
            <a:off x="2040480" y="371304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66640" y="126828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046920" y="836640"/>
                <a:ext cx="1944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3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8" name=""/>
          <p:cNvSpPr/>
          <p:nvPr/>
        </p:nvSpPr>
        <p:spPr>
          <a:xfrm>
            <a:off x="5063760" y="90972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3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9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116000" y="6093000"/>
                <a:ext cx="114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"/>
          <p:cNvSpPr/>
          <p:nvPr/>
        </p:nvSpPr>
        <p:spPr>
          <a:xfrm rot="7969800">
            <a:off x="747360" y="5009760"/>
            <a:ext cx="1046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80" y="1086"/>
                </a:moveTo>
                <a:arcTo wR="10800" hR="10800" stAng="-6955044" swAng="5751935"/>
                <a:lnTo>
                  <a:pt x="10800" y="10800"/>
                </a:lnTo>
                <a:close/>
              </a:path>
              <a:path fill="none" w="21600" h="21600">
                <a:moveTo>
                  <a:pt x="6080" y="1086"/>
                </a:moveTo>
                <a:arcTo wR="10800" hR="10800" stAng="-6955044" swAng="5751935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374920" y="4797360"/>
                <a:ext cx="1119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rot="7969800">
            <a:off x="2040480" y="371304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95000" y="177336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435640" y="836640"/>
                <a:ext cx="25304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348840" y="12682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149480" y="1197000"/>
                <a:ext cx="2477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0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2" dur="5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2" dur="5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95640" y="4437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8395400">
            <a:off x="1221480" y="52725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042920" y="4508640"/>
                <a:ext cx="11192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12355800">
            <a:off x="2190240" y="3891600"/>
            <a:ext cx="1047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34" y="822"/>
                </a:moveTo>
                <a:arcTo wR="10800" hR="10800" stAng="-4049680" swAng="2846570"/>
                <a:lnTo>
                  <a:pt x="10800" y="10800"/>
                </a:lnTo>
                <a:close/>
              </a:path>
              <a:path fill="none" w="21600" h="21600">
                <a:moveTo>
                  <a:pt x="14934" y="822"/>
                </a:moveTo>
                <a:arcTo wR="10800" hR="10800" stAng="-4049680" swAng="284657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87640" y="4508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5892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62728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01480" y="90972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In figura de mai jos se cunoas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95000" y="1773360"/>
            <a:ext cx="42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flati masurile celorlalte unghiu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5435640" y="824040"/>
                <a:ext cx="25304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4781520" y="836640"/>
                <a:ext cx="7160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348840" y="126828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6836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plicati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149480" y="1197000"/>
                <a:ext cx="2477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63520" y="5229360"/>
                <a:ext cx="11206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2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8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2" dur="5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25800" cy="2276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024360" cy="2276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3024360" cy="2276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118200" y="4583160"/>
            <a:ext cx="3025800" cy="2274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6118200" y="2276640"/>
            <a:ext cx="3025800" cy="2274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6119640" y="0"/>
            <a:ext cx="3024360" cy="2276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132000" y="1890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Faceti corespondenta cor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9810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1. Unghiuri opuse la var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134136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2. Unghiuri corespond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1052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284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8000" y="566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56720" y="1052640"/>
            <a:ext cx="86328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28000" y="32846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28000" y="566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70028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3. Unghiuri alterne ex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87640" y="20606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4. Unghiuri externe de aceeasi parte a secant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5653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5. Unghiuri interne de aceeasi parte a secant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213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6. Unghiuri alterne inter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378936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32000" y="422100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6544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508644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51808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950080"/>
            <a:ext cx="8636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Times New Roman"/>
              </a:rPr>
              <a:t>Fig. 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76720" y="378936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76720" y="422100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76720" y="465300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08464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76720" y="551664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6720" y="5950080"/>
            <a:ext cx="360360" cy="368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500"/>
                            </p:stCondLst>
                            <p:childTnLst>
                              <p:par>
                                <p:cTn id="1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7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9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19840" y="2997360"/>
                <a:ext cx="27334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041800" y="3022560"/>
                <a:ext cx="2836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948200" y="1413000"/>
                <a:ext cx="309888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998960" y="1459080"/>
                <a:ext cx="299556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511200">
            <a:off x="110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55720" y="537516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6400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7969800">
            <a:off x="250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0800000">
            <a:off x="248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3860640"/>
            <a:ext cx="475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3640" y="393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350028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564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443480" y="2349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in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Teorema dreptelor paralele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8200" y="836640"/>
            <a:ext cx="46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intern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6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7 L -0.51198 -0.27778 E">
                                      <p:cBhvr>
                                        <p:cTn id="246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6.84551E-007 L -0.51163 -0.18316 E">
                                      <p:cBhvr>
                                        <p:cTn id="28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730760" y="2637000"/>
                <a:ext cx="2840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59480" y="1268280"/>
                <a:ext cx="29970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803840" y="2637000"/>
                <a:ext cx="2735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3280" y="1268280"/>
                <a:ext cx="309888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8511200">
            <a:off x="2860560" y="3290040"/>
            <a:ext cx="1048320" cy="122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7213727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7213727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3429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3640" y="40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5928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5877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2924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1120" y="1989000"/>
            <a:ext cx="52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ex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520" y="83664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extern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60777E-006 L -0.51337 -0.21462 E">
                                      <p:cBhvr>
                                        <p:cTn id="33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88529E-006 L -0.51111 -0.11656 E">
                                      <p:cBhvr>
                                        <p:cTn id="36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948200" y="2709720"/>
                <a:ext cx="2838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23000" y="2709720"/>
                <a:ext cx="2786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948200" y="2781360"/>
                <a:ext cx="28386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046840" y="2735280"/>
                <a:ext cx="26827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851360" y="1125360"/>
                <a:ext cx="304632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876920" y="1197000"/>
                <a:ext cx="309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917960" y="1150920"/>
                <a:ext cx="29448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876920" y="1125360"/>
                <a:ext cx="30985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5720" y="537516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064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06494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8511200">
            <a:off x="3012480" y="326232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03640" y="42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7969800">
            <a:off x="261648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0800000">
            <a:off x="2627640" y="3706920"/>
            <a:ext cx="7398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8" y="519"/>
                </a:moveTo>
                <a:arcTo wR="10800" hR="10800" stAng="-4329682" swAng="7137053"/>
                <a:lnTo>
                  <a:pt x="10800" y="10800"/>
                </a:lnTo>
                <a:close/>
              </a:path>
              <a:path fill="none" w="21600" h="21600">
                <a:moveTo>
                  <a:pt x="14108" y="519"/>
                </a:moveTo>
                <a:arcTo wR="10800" hR="10800" stAng="-4329682" swAng="7137053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35280" y="2852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71840" y="206208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corespond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907920"/>
            <a:ext cx="46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corespondente congruente;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4" dur="5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9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6901E-006 L -0.51354 -0.2463 E">
                                      <p:cBhvr>
                                        <p:cTn id="415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33333E-006 L -0.50955 -0.16922 E">
                                      <p:cBhvr>
                                        <p:cTn id="45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7 L -0.504 -0.06782 E">
                                      <p:cBhvr>
                                        <p:cTn id="48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4311E-006 L -0.50347 0.00925 E">
                                      <p:cBhvr>
                                        <p:cTn id="51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77164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211640" y="4005360"/>
                <a:ext cx="45813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159520" y="1341360"/>
                <a:ext cx="30463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219640" y="1341360"/>
                <a:ext cx="2995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11640" y="4005360"/>
                <a:ext cx="4599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 rot="18511200">
            <a:off x="1098720" y="5263560"/>
            <a:ext cx="104796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27720" y="530064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44317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44317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35280" y="3357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7969800">
            <a:off x="2615760" y="3065760"/>
            <a:ext cx="10479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0646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06463"/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10800000">
            <a:off x="2772000" y="3608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5805360"/>
            <a:ext cx="489744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79280" y="3785760"/>
            <a:ext cx="501336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373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692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53020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364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58920" y="6021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0000" y="220500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in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76880" y="836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interne de aceasi parte a secantei suplemen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8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0"/>
                            </p:stCondLst>
                            <p:childTnLst>
                              <p:par>
                                <p:cTn id="5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53377E-006 L -0.44028 -0.37789 E">
                                      <p:cBhvr>
                                        <p:cTn id="569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25809E-006 L -0.43941 -0.25971 E">
                                      <p:cBhvr>
                                        <p:cTn id="604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334040" y="3624120"/>
                <a:ext cx="45846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284720" y="3573360"/>
                <a:ext cx="45925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971960" y="1339920"/>
                <a:ext cx="30466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962600" y="1390680"/>
                <a:ext cx="2995560" cy="87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511200">
            <a:off x="2437200" y="3909960"/>
            <a:ext cx="1047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987640" y="4076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8436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78640" y="4005360"/>
            <a:ext cx="45000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50920" y="5734080"/>
            <a:ext cx="4825800" cy="71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239760" y="4436640"/>
            <a:ext cx="4836960" cy="3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76364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443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124000" y="4437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84360" y="40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63640" y="5877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00360" y="436572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370400" y="215748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externe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aceeasi parte a secante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ouă drepte paralele intersectate de o secantă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63640" y="907920"/>
            <a:ext cx="68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externe de aceasi parte a secantei suplementa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0"/>
                            </p:stCondLst>
                            <p:childTnLst>
                              <p:par>
                                <p:cTn id="62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8" dur="5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0472E-006 L -0.46875 -0.26712 E">
                                      <p:cBhvr>
                                        <p:cTn id="654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1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74838E-006 L -0.46372 -0.16813 E">
                                      <p:cBhvr>
                                        <p:cTn id="688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9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9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076720" y="1413000"/>
                <a:ext cx="2836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084720" y="1341360"/>
                <a:ext cx="24418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419640" y="1268280"/>
                <a:ext cx="2746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076720" y="1413000"/>
                <a:ext cx="27338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18511200">
            <a:off x="1102680" y="5268960"/>
            <a:ext cx="10483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779783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77978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55720" y="537516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617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61756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350028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3933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7969800">
            <a:off x="2509200" y="3299040"/>
            <a:ext cx="10490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874" y="3464"/>
                </a:moveTo>
                <a:arcTo wR="10800" hR="10800" stAng="-8232932" swAng="7029823"/>
                <a:lnTo>
                  <a:pt x="10800" y="10800"/>
                </a:lnTo>
                <a:close/>
              </a:path>
              <a:path fill="none" w="21600" h="21600">
                <a:moveTo>
                  <a:pt x="2874" y="3464"/>
                </a:moveTo>
                <a:arcTo wR="10800" hR="10800" stAng="-8232932" swAng="7029823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2480400" y="3279960"/>
            <a:ext cx="676800" cy="101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067" y="140"/>
                </a:moveTo>
                <a:arcTo wR="10800" hR="10800" stAng="-5954183" swAng="5438721"/>
                <a:lnTo>
                  <a:pt x="10800" y="10800"/>
                </a:lnTo>
                <a:close/>
              </a:path>
              <a:path fill="none" w="21600" h="21600">
                <a:moveTo>
                  <a:pt x="9067" y="140"/>
                </a:moveTo>
                <a:arcTo wR="10800" hR="10800" stAng="-5954183" swAng="5438721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5280" y="3860640"/>
            <a:ext cx="47530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32000" y="386064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27280" y="386064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5928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87280" y="6021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6720" y="378936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64000" y="2997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4508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in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Criterii de paralelism </a:t>
            </a: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7720" y="907920"/>
            <a:ext cx="78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interne congruente, atunci dreptele sunt paralele.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8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5000"/>
                            </p:stCondLst>
                            <p:childTnLst>
                              <p:par>
                                <p:cTn id="7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7.30805E-007 L -0.51962 -0.00486 E">
                                      <p:cBhvr>
                                        <p:cTn id="733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0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0833E-006 L -0.52517 0.08279 E">
                                      <p:cBhvr>
                                        <p:cTn id="758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5003640" y="1557360"/>
                <a:ext cx="28400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076720" y="1557360"/>
                <a:ext cx="27352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1619280" y="544500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7969800">
            <a:off x="745200" y="5081760"/>
            <a:ext cx="1047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6141110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6141110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10800000">
            <a:off x="900360" y="5624640"/>
            <a:ext cx="3045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8511200">
            <a:off x="2860560" y="3290040"/>
            <a:ext cx="1048320" cy="122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12" y="1682"/>
                </a:moveTo>
                <a:arcTo wR="10800" hR="10800" stAng="-7344219" swAng="7213727"/>
                <a:lnTo>
                  <a:pt x="10800" y="10800"/>
                </a:lnTo>
                <a:close/>
              </a:path>
              <a:path fill="none" w="21600" h="21600">
                <a:moveTo>
                  <a:pt x="5012" y="1682"/>
                </a:moveTo>
                <a:arcTo wR="10800" hR="10800" stAng="-7344219" swAng="7213727"/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64000" y="342900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635280" y="3860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99360" y="3357720"/>
            <a:ext cx="303840" cy="608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84014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840140"/>
              </a:path>
            </a:pathLst>
          </a:cu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0920" y="5805360"/>
            <a:ext cx="482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250920" y="3785760"/>
            <a:ext cx="4941720" cy="32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82200" y="3100320"/>
            <a:ext cx="3367080" cy="3497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03280" y="580536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00000" y="5805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87280" y="5373720"/>
            <a:ext cx="23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76720" y="3789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00360" y="3789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59280" y="335772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835280" y="5805360"/>
            <a:ext cx="2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37162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03280" y="5734080"/>
            <a:ext cx="142920" cy="144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4920" y="33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14920" y="5373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64000" y="292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5280" y="4508640"/>
            <a:ext cx="525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Times New Roman"/>
              </a:rPr>
              <a:t>Unghiuri alterne exte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476360" y="18900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onsecinta: </a:t>
            </a: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0920" y="549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aca două drepte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si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intersectate de o secantă </a:t>
            </a: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formeaz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88240" y="981000"/>
            <a:ext cx="780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unghiuri alterne-externe congruente atunci dreptele sunt paralele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6084720" y="1341360"/>
                <a:ext cx="244188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419640" y="1268280"/>
                <a:ext cx="2746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0"/>
                            </p:stCondLst>
                            <p:childTnLst>
                              <p:par>
                                <p:cTn id="7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7" dur="5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59759E-006 L -0.4566 -0.0363 E">
                                      <p:cBhvr>
                                        <p:cTn id="80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32007E-006 L -0.45434 0.06175 E">
                                      <p:cBhvr>
                                        <p:cTn id="832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0:38:07Z</dcterms:created>
  <dc:creator>Administrator</dc:creator>
  <dc:description/>
  <dc:language>en-US</dc:language>
  <cp:lastModifiedBy>Cursant17</cp:lastModifiedBy>
  <dcterms:modified xsi:type="dcterms:W3CDTF">2010-08-25T08:53:38Z</dcterms:modified>
  <cp:revision>30</cp:revision>
  <dc:subject/>
  <dc:title>Diapozitivul 1</dc:title>
</cp:coreProperties>
</file>